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DA6-B429-4DE9-84BA-35A57774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735C-22EB-4986-A269-15FF6110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315-5076-4461-8015-4F6BE42B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F726-9255-4E36-B745-8DF3EA63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CE1E-F56A-4211-9D26-9867D001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FE5E-51DE-4EF5-A43D-303C32A6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46D2-FEA0-4A54-933C-D3B9F214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297F-AC5F-4643-8CB7-1E9BF80F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A296-F020-49B4-ADD7-83C59AA5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63CA-FDC7-4508-8978-9711BE3D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2F9F-10C6-4634-8C5A-2DB81BF4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8D93-BF0D-4723-9C3B-2E71E2FD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FB41-20D0-409B-8E55-B3E97989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48A3-C736-4760-9456-0CDFBCAD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D8F5-1518-4B13-B807-F367E2DA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3028-EC69-4A07-BD1A-91912BFF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BCD2-6577-4275-9638-4D873AC6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CC47-9C1E-41C6-8B51-CE78D4E4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3CB0-3A50-4CBC-8E82-71EAADC2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A7CC-03A5-4417-A8FE-F2019E20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4E4D-831B-41A6-8578-76647C2E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4ED2-0B86-48C8-A6B6-20EB2E37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EA5A-1439-4E38-8483-6FEBC133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9E6F-AC33-4295-950C-77618D28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9208-5A3C-4761-A508-AD16C326CC6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BDA9-5401-463F-90B3-8441D8E3BF7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ind.galegroup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: Lauryn and Rachel Mone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Ozone Layer Depletion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is the Ozone layer?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zon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ay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n atmospheric layer that helps shield life from ultraviolet radiation, which helps minimize the breakage of DN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32925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14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w is it happening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lorofluorocarbons (CFCs), are chemicals that are emitted into the lower atmosphe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chemicals slowly penetrate into the stratosphere, where they then consume ozone molecul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y all the depletion? </a:t>
            </a:r>
            <a:r>
              <a:rPr b="0" lang="en-US" sz="5200" spc="-1" strike="noStrike">
                <a:solidFill>
                  <a:srgbClr val="ffffcc"/>
                </a:solidFill>
                <a:latin typeface="Wingdings"/>
                <a:ea typeface="Wingdings"/>
              </a:rPr>
              <a:t></a:t>
            </a:r>
            <a:endParaRPr b="0" lang="en-US" sz="5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rst observed in the mid-1980’s, pollution is the factor causing ozone layer deple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amples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emicals in air conditioning and cooling uni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erosol spray (hairsprays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eaning processes of electronical equipme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56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58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60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62" dur="2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64" dur="2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is ultraviolet radiation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ltraviolet light is a form of electromagnetic radi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term electromagnetic spectrum refers to all forms of energy transmitted by means of waves traveling at the speed of ligh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the radiation that causes tanning and sunburns and can lead to skin cance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343400" y="4237200"/>
            <a:ext cx="327672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reedman, Bill. "Ozone layer depletion."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Gale Encyclopedia of Science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Ed. K. Lee Lerner and Brenda Wilmoth Lerner. 4th ed. Detroit: Gale Group, 2008.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Student Resource Center - Gold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Gale. Stroudsburg High School. 26 Feb. 2009 &lt;http://find.galegroup.com&gt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"Ozone."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World of Scientific Discovery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Ed. Kimberley A. McGrath and Bridget Travers. Online ed. Detroit: Thomson Gale, 2007.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Student Resource Center - Gold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Gale. Stroudsburg High School. 26 Feb. 2009 </a:t>
            </a:r>
            <a:r>
              <a:rPr b="0" lang="en-US" sz="1400" spc="-1" strike="noStrike" u="sng">
                <a:solidFill>
                  <a:srgbClr val="1ace9f"/>
                </a:solidFill>
                <a:uFillTx/>
                <a:latin typeface="Verdana"/>
                <a:hlinkClick r:id="rId1"/>
              </a:rPr>
              <a:t>http://find.galegroup.co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"Electromagnetic spectrum."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UXL Encyclopedia of Science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Ed. Rob Nagel. 2nd ed. Detroit: U*X*L, 2007.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Student Resource Center - Gold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Gale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3:41:12Z</dcterms:created>
  <dc:creator>sasd</dc:creator>
  <dc:description/>
  <dc:language>en-US</dc:language>
  <cp:lastModifiedBy>sasd</cp:lastModifiedBy>
  <dcterms:modified xsi:type="dcterms:W3CDTF">2009-02-27T13:57:05Z</dcterms:modified>
  <cp:revision>24</cp:revision>
  <dc:subject/>
  <dc:title>Ozone Layer Depletion</dc:title>
</cp:coreProperties>
</file>